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B36345-7DC3-4A18-967D-974A99C8CE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99840" y="749160"/>
            <a:ext cx="534492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898560" y="470340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1960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0" y="940896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9408960"/>
            <a:ext cx="292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98400" y="74916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8560" y="470340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20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euro@ms400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5257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09480"/>
            <a:ext cx="8416800" cy="5486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0948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77160" y="6491160"/>
            <a:ext cx="202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www.ms400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m4" descr=""/>
          <p:cNvPicPr/>
          <p:nvPr/>
        </p:nvPicPr>
        <p:blipFill>
          <a:blip r:embed="rId3"/>
          <a:stretch/>
        </p:blipFill>
        <p:spPr>
          <a:xfrm>
            <a:off x="4648320" y="6202440"/>
            <a:ext cx="1066680" cy="655560"/>
          </a:xfrm>
          <a:prstGeom prst="rect">
            <a:avLst/>
          </a:prstGeom>
          <a:ln w="0">
            <a:noFill/>
          </a:ln>
        </p:spPr>
      </p:pic>
      <p:pic>
        <p:nvPicPr>
          <p:cNvPr id="8" name="Millennium%20Solutions%20Logo%20Blue%20&amp;%20Red" descr=""/>
          <p:cNvPicPr/>
          <p:nvPr/>
        </p:nvPicPr>
        <p:blipFill>
          <a:blip r:embed="rId4"/>
          <a:stretch/>
        </p:blipFill>
        <p:spPr>
          <a:xfrm>
            <a:off x="2971800" y="0"/>
            <a:ext cx="456876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m4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4341960" cy="254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84960" y="2057400"/>
            <a:ext cx="441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 Compliant Solution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he E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ink Euro Think EM4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MC20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7772400" cy="4435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EMC21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7848720" cy="415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Analysi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cate monetary values &amp; exchange r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y value type (Automati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b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base analysis to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ule s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dit c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xt descrip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ltilevel ru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r Maintain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ultiple rule s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fic to file grou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fic to 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Analysi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EMC22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8001000" cy="433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ield Association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firm types &amp; define relation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action / Rate / Base / Glob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mple - stand alone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lue = Transaction * 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eader - related to simple data (sum of, product of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any co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MC23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ield Association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variance requir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ser definable codes per field, loaded at run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roup varia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concili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ournal pos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EMC42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8077320" cy="419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mple base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vide value by Euro conversion factor to compute new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pdate file with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75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Contents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523880"/>
            <a:ext cx="841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Technical Overview of EM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mplementation time-scales &amp; Variable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EMC24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Original Base Value = 100 D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Euro Conversion Factor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.95583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ew Base Value = 100 / 1.955830 =  51.12919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uro Value Written To File = 51.13 E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action to 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vide associated ex rate by Euro conversion fac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ltiply transaction value by adjusted rate to compute new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pdate file with new rate and base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MC25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077320" cy="43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Original Transaction Value = 100 US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Original Base Value = 190 DEM =  100 * 1.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Euro Conversion Factor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.95583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minal Exchange Rate = 1.90 / 1.955830 =  .971454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ew Base Value = 97.14545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94320" indent="-1987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uro Value Written To File = 97.15 E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eader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mple values will be computed before head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values will be computed from a calculation involving simple or other head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EMC26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grams auto generated from the analysis process - manually created programs can be add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ne program per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erate for whole Library, Generic Files or Individual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am Gene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EMC30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8381880" cy="437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MC41" descr=""/>
          <p:cNvPicPr/>
          <p:nvPr/>
        </p:nvPicPr>
        <p:blipFill>
          <a:blip r:embed="rId2"/>
          <a:stretch/>
        </p:blipFill>
        <p:spPr>
          <a:xfrm>
            <a:off x="762120" y="1249200"/>
            <a:ext cx="8381880" cy="436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837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520" y="304812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Functional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(Technical Overview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Job &amp; Run Control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e Libraries with data to conve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st, Analysis, L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b Que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trols test &amp; live ru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emb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 field / file relation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MC27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001000" cy="426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BC01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quence conversion progra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t file audit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untime choice on what to convert - all companies &amp; global, global only, single or selected companies - any combin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Job &amp; Run Control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EMC31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8458200" cy="437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EMC32" descr=""/>
          <p:cNvPicPr/>
          <p:nvPr/>
        </p:nvPicPr>
        <p:blipFill>
          <a:blip r:embed="rId2"/>
          <a:stretch/>
        </p:blipFill>
        <p:spPr>
          <a:xfrm>
            <a:off x="838080" y="1114560"/>
            <a:ext cx="8153640" cy="4587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 elements automat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-u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gram run sequ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reate Runs from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an only run over live with status of signed of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FO, AS400 password controll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Job &amp; Run Control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MC34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81532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EMC35" descr=""/>
          <p:cNvPicPr/>
          <p:nvPr/>
        </p:nvPicPr>
        <p:blipFill>
          <a:blip r:embed="rId2"/>
          <a:stretch/>
        </p:blipFill>
        <p:spPr>
          <a:xfrm>
            <a:off x="914400" y="1173240"/>
            <a:ext cx="8077320" cy="451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dit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Details of modifications stored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New and original value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Easy to Query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ria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Value variances recorded by field level code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Report and enquiry function - by lib / file / field/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member / code / type / variance value / variance %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Direct link back to original data for quick acces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conciliation &amp; Audi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551640" y="1905120"/>
          <a:ext cx="2209680" cy="21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1640" y="1905120"/>
                    <a:ext cx="22096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Conversion Approach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t base values per compan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t global val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djust exchange r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t currency codes to EU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action values remain unchang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riance Investig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50960" y="1227240"/>
            <a:ext cx="660096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323040" y="3124080"/>
          <a:ext cx="2028960" cy="19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3040" y="3124080"/>
                    <a:ext cx="202896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37040" y="3200400"/>
          <a:ext cx="141588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7040" y="3200400"/>
                    <a:ext cx="1415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589120" y="2743200"/>
            <a:ext cx="685800" cy="11430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89120" y="4876920"/>
            <a:ext cx="685800" cy="11430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570560" y="2438280"/>
            <a:ext cx="1752480" cy="68580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3160" y="3962520"/>
            <a:ext cx="838080" cy="83808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788400">
            <a:off x="2817000" y="2286000"/>
            <a:ext cx="1600200" cy="60912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riance Exampl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Recall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Original Transaction Value = 100 US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Original Base Value = 190 DEM =  100 * 1.9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Euro Conversion Factor =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.95583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minal Exchange Rate = 1.90 / 1.955830 =  .971454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w Base Value = 97.14545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uro Value Written To File = 97.15 EU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41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nvert EUR directly to D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97.15 EUR *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.955830 =  190.0088845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ounded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= 190.01 DEM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riance = Original Value - New Val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190 - 190.01 = -.01 D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Compare with Thresho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rite to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Unique key to record recor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EMC36" descr=""/>
          <p:cNvPicPr/>
          <p:nvPr/>
        </p:nvPicPr>
        <p:blipFill>
          <a:blip r:embed="rId2"/>
          <a:stretch/>
        </p:blipFill>
        <p:spPr>
          <a:xfrm>
            <a:off x="914400" y="1184400"/>
            <a:ext cx="815328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EMC38" descr=""/>
          <p:cNvPicPr/>
          <p:nvPr/>
        </p:nvPicPr>
        <p:blipFill>
          <a:blip r:embed="rId2"/>
          <a:stretch/>
        </p:blipFill>
        <p:spPr>
          <a:xfrm>
            <a:off x="914400" y="1170000"/>
            <a:ext cx="8077320" cy="451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MC43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7732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EMC39" descr=""/>
          <p:cNvPicPr/>
          <p:nvPr/>
        </p:nvPicPr>
        <p:blipFill>
          <a:blip r:embed="rId2"/>
          <a:stretch/>
        </p:blipFill>
        <p:spPr>
          <a:xfrm>
            <a:off x="914400" y="1193760"/>
            <a:ext cx="8077320" cy="4471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837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orks with ANY AS400 application &amp; databa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ganisations usually have multiple applications - standard, modified and in hou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st sites will have 500+ files to be convert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05840" indent="-2008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 program per file / program consistenc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utomatically generates fast, efficient controllable progra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bs control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 sure that what runs in test runs in l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le level configurable audi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eld level varianc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Conversion Proces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stallation &amp; Set u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base Analys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eld Definition, Association &amp; Calcul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gram Gener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b &amp; Run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conciliation &amp; Aud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ckage applications may be upgradeable but are ALL applications in use upgradeabl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ckage upgrades take time &amp; deadlines to consider - 31/12/200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 house applications - do manuall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uto program generation &amp; job control saves considerable time and provides guaranteed conversion consistenc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ing EM4 does not affect future upgrade path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ither source code or file structure is altered by EM4, just data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Why EM4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y Euro conversion project is resource intensi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pply project managers with financial backgrou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ll Euro conversion projects are time critic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s to be done by 31/12/2001 - possible business advantages if done earli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alendar Period End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839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re are only 5 calendar month ends on a Friday prior to 31st Dec 200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1/3/2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0/6/2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9/12/2000 - poss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1/8/200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0/11/2001 - last chance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23520" y="259092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riable fac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71620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916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4784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264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724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558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54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956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6964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73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429000"/>
            <a:ext cx="17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74320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752480"/>
            <a:ext cx="2741760" cy="22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3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424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rst st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sta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aly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rst ru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 - 10 days - BPCS analysis suppli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71620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916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784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264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724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58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54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956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96964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73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9840" y="1676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264920" y="220896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6320" y="1752480"/>
            <a:ext cx="2590920" cy="243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3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424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cond st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odify, re convert &amp; reconc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es to data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es to analysis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 + da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71620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916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784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264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724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58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54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956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96964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73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08640" y="2286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017400" y="27424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08640" y="2057400"/>
            <a:ext cx="167652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3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424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762120"/>
            <a:ext cx="628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4 - Database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ge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880" y="1905120"/>
            <a:ext cx="7171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mated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lly Converted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iled Audit &amp; Reconcili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ro compliant calc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074080" y="1752480"/>
          <a:ext cx="990720" cy="9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4080" y="1752480"/>
                    <a:ext cx="990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074080" y="2514600"/>
          <a:ext cx="99072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74080" y="2514600"/>
                    <a:ext cx="990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074080" y="3352680"/>
          <a:ext cx="990720" cy="95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4080" y="3352680"/>
                    <a:ext cx="990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074080" y="4038480"/>
          <a:ext cx="990720" cy="95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74080" y="4038480"/>
                    <a:ext cx="990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074080" y="4800600"/>
          <a:ext cx="990720" cy="95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74080" y="4800600"/>
                    <a:ext cx="990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mulation exerci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 - 3 days (weeken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6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mulation Objectiv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ablish exact time requir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lidate reconciliation &amp; sign-off proced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erify resource requir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ntire process must fit time wind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2666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88400" y="2286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onth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960" y="228600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ave /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3505320"/>
            <a:ext cx="228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89320" y="4038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5040" y="29718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n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704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6560" y="182880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66688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3840" y="35812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2520" y="5257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5280" y="44197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nth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4800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4800" y="48006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conc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7432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0" idx="0"/>
            <a:endCxn id="229" idx="0"/>
          </p:cNvCxnSpPr>
          <p:nvPr/>
        </p:nvCxnSpPr>
        <p:spPr>
          <a:xfrm>
            <a:off x="5103360" y="4038120"/>
            <a:ext cx="1080" cy="762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33" name=""/>
          <p:cNvCxnSpPr>
            <a:stCxn id="227" idx="0"/>
            <a:endCxn id="225" idx="0"/>
          </p:cNvCxnSpPr>
          <p:nvPr/>
        </p:nvCxnSpPr>
        <p:spPr>
          <a:xfrm flipV="1" rot="16200000">
            <a:off x="4303440" y="2628360"/>
            <a:ext cx="2591640" cy="2667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234" name=""/>
          <p:cNvCxnSpPr>
            <a:stCxn id="219" idx="0"/>
            <a:endCxn id="220" idx="0"/>
          </p:cNvCxnSpPr>
          <p:nvPr/>
        </p:nvCxnSpPr>
        <p:spPr>
          <a:xfrm>
            <a:off x="4188960" y="3504960"/>
            <a:ext cx="1080" cy="5338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35" name=""/>
          <p:cNvCxnSpPr>
            <a:stCxn id="220" idx="0"/>
            <a:endCxn id="219" idx="0"/>
          </p:cNvCxnSpPr>
          <p:nvPr/>
        </p:nvCxnSpPr>
        <p:spPr>
          <a:xfrm flipV="1" rot="16200000">
            <a:off x="2779920" y="2629080"/>
            <a:ext cx="533880" cy="2284920"/>
          </a:xfrm>
          <a:prstGeom prst="bentConnector5">
            <a:avLst>
              <a:gd name="adj1" fmla="val 50000"/>
              <a:gd name="adj2" fmla="val -10006"/>
              <a:gd name="adj3" fmla="val 142847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7085160" y="5334120"/>
            <a:ext cx="836640" cy="4572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wo Month En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up / duplicate data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nth End - Original Curren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vert pre month end data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nth End - Eu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ne Month E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up data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nth End - Original Curren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up / duplicate data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vert to Eu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cku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71620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916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4784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264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724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558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54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956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96964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73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3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424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3040" y="2743200"/>
            <a:ext cx="17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627960" y="31996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3040" y="2590920"/>
            <a:ext cx="167472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view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chine perform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ource requir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iation &amp; audit tra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ternal audit revi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arget suitable period 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base Siz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umber of applic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/4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usiness Resour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Consider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ther data sources / targ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ther application platfor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readshee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fficial documents / regist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orporate into project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71620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916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4784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264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724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558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54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3956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6964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73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3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424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16880" y="297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7921800" y="34282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16880" y="2819520"/>
            <a:ext cx="167652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MC11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Go live weeken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heck against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Go For 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837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f you have any further questions regarding the Euro or EM4,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lease contact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Millennium Solu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hone: +353 1 403 5400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mail:  euro@ms400.com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r visit our websit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ww.ms400.com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stallation &amp; Set up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 Librar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curity Ke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stallation &amp; Set up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ystem Parame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anies &amp; Curren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ria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OBQ &amp; OUTQ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version Fac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6:30:42Z</dcterms:created>
  <dc:creator>Plunkett Devlin</dc:creator>
  <dc:description/>
  <dc:language>en-US</dc:language>
  <cp:lastModifiedBy>Alan Neild-Crabb</cp:lastModifiedBy>
  <cp:lastPrinted>2000-02-09T13:21:20Z</cp:lastPrinted>
  <dcterms:modified xsi:type="dcterms:W3CDTF">2000-02-10T13:28:12Z</dcterms:modified>
  <cp:revision>165</cp:revision>
  <dc:subject/>
  <dc:title>Plunkett Devlin -Technical Consultant (EMEA) Millennium Solutions</dc:title>
</cp:coreProperties>
</file>