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3820680" y="941076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4115A56-61B2-4414-B37A-F9E1316153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Img"/>
          </p:nvPr>
        </p:nvSpPr>
        <p:spPr>
          <a:xfrm>
            <a:off x="699840" y="749160"/>
            <a:ext cx="5344920" cy="370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body"/>
          </p:nvPr>
        </p:nvSpPr>
        <p:spPr>
          <a:xfrm>
            <a:off x="898560" y="470340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819600" y="0"/>
            <a:ext cx="29242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19600" y="9408960"/>
            <a:ext cx="29242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9408960"/>
            <a:ext cx="292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698400" y="749160"/>
            <a:ext cx="5346720" cy="3702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98560" y="4703400"/>
            <a:ext cx="49449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GB" sz="2000" spc="-1" strike="noStrike">
                <a:solidFill>
                  <a:srgbClr val="cc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imes New Roman"/>
              </a:rPr>
              <a:t>euro@ms400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30080" y="52578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09480"/>
            <a:ext cx="8420040" cy="54864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80400" y="6491160"/>
            <a:ext cx="202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www.ms400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em4" descr=""/>
          <p:cNvPicPr/>
          <p:nvPr/>
        </p:nvPicPr>
        <p:blipFill>
          <a:blip r:embed="rId3"/>
          <a:stretch/>
        </p:blipFill>
        <p:spPr>
          <a:xfrm>
            <a:off x="4649760" y="6202440"/>
            <a:ext cx="1066680" cy="655560"/>
          </a:xfrm>
          <a:prstGeom prst="rect">
            <a:avLst/>
          </a:prstGeom>
          <a:ln w="0">
            <a:noFill/>
          </a:ln>
        </p:spPr>
      </p:pic>
      <p:pic>
        <p:nvPicPr>
          <p:cNvPr id="8" name="Millennium%20Solutions%20Logo%20Blue%20&amp;%20Red" descr=""/>
          <p:cNvPicPr/>
          <p:nvPr/>
        </p:nvPicPr>
        <p:blipFill>
          <a:blip r:embed="rId4"/>
          <a:stretch/>
        </p:blipFill>
        <p:spPr>
          <a:xfrm>
            <a:off x="2973240" y="0"/>
            <a:ext cx="457056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em4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4343400" cy="2543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486400" y="2057400"/>
            <a:ext cx="4419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A Compliant Solution for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the Eu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version Approach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t Base val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t Global valu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djust currency Rates against Eur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ransaction values remain unchange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version Approach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ull conversion in test environ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iation by finan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esting by busin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terative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gn-off by finance &amp; busin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version Approach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imulation ru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hearsal of live ru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ll processes ru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achine &amp; reconciliatio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act replic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firm time-sca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lanni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to convert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ot confined to period 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ogic applies to any ti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e issue to deci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version outside period 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onth - part in existing Base / part in Eur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o strict financial reconcili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to convert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eriod 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lean financial reconcili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Finance staff more comforta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Logical end / start po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reater level of contro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duced ris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to convert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 the appropriat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untry must be read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Fiscal &amp; statutory authoriti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Check with audito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to convert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 the appropriat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st suit the compan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Other reporting requirem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Business cycle issu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onth-end on last day of month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Payment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hen to convert 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 the appropriate tim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o not leave too lat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ajor task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source plann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achin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Tes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sentation Content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rt 1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mpact on Fin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mpact on 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4 Overvie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rt 2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4 Technical Overvie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M4 Dem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Part  2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Product functionality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mpon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base analysis to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eld definition &amp; association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iation &amp; audit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66"/>
                </a:solidFill>
                <a:latin typeface="Times New Roman"/>
              </a:rPr>
              <a:t>Database analysis to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Locate monetary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Identify type (semi-automatic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Transac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Base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Times New Roman"/>
              </a:rPr>
              <a:t>Glob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atabase analysis to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ule s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dit cod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ext descrip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ltilevel rul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ultiple rule s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fic to file grou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pecific to applic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eld definition &amp; associat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lidate codes from analysis too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fine relationship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ransaction / Rate / Base /Globa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mple - stand alone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- related to simple data (sum of, product of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ield definition &amp; associat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fine variance requiremen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ser definable cod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Group varia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Repor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13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Journal posting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ransaction to 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vide Rate by Euro Conversion Facto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ltiply Transaction value by adjusted Rate to compute new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pdate file with new Rate and Base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mple Base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ivide value by Euro conversion factor to compute new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Update file with Base valu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conversion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Header valu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mple values will be computed before header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Header values will be computed from the sum of their associated detail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pany Profil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Millennium Solutions is a Java &amp; AS/400 product Based company building its success on simple and cost effective software solu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We are the AS/400 global leader in the development and supply of fast, innovative and cost effective solutions for Y2K &amp; Euro conver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Times New Roman"/>
              </a:rPr>
              <a:t>Millennium are the developers of leading edge e-commerce solutions for multi-platform, independent database connectivity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conciliation &amp; audit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udit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tails of modifications stor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New and original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Variance valu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lat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uitable (easy) for quer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553080" y="3124080"/>
            <a:ext cx="221004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conciliation &amp; audit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Variance enqui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On-line featur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rill through to original data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553080" y="3124080"/>
            <a:ext cx="221004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Database Conversion</a:t>
            </a:r>
            <a:br>
              <a:rPr sz="4400"/>
            </a:b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Variance Investig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324480" y="3124080"/>
            <a:ext cx="2030400" cy="196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141768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90920" y="2743200"/>
            <a:ext cx="685800" cy="11430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4876920"/>
            <a:ext cx="685800" cy="1143000"/>
          </a:xfrm>
          <a:prstGeom prst="flowChartMagneticDisk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rig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2000" y="2438280"/>
            <a:ext cx="1752480" cy="68580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3962520"/>
            <a:ext cx="838080" cy="83808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ink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rot="788400">
            <a:off x="2818800" y="2286000"/>
            <a:ext cx="1600200" cy="609120"/>
          </a:xfrm>
          <a:custGeom>
            <a:avLst/>
            <a:gdLst>
              <a:gd name="textAreaLeft" fmla="*/ 280080 w 1600200"/>
              <a:gd name="textAreaRight" fmla="*/ 1160280 w 1600200"/>
              <a:gd name="textAreaTop" fmla="*/ 81360 h 609120"/>
              <a:gd name="textAreaBottom" fmla="*/ 527760 h 60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conciliation &amp; audit proces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conciliation report se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tandard report s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Query over audit fi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Inquire / report on varianc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oft &amp; hard copy reco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3124080"/>
            <a:ext cx="2210040" cy="2117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140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ow does it work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grams auto generated from the analysis proces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ne program per fil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un sequence controll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485720" y="14479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ultiple librari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ultiple fi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ultiple membe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lnSpc>
                <a:spcPct val="20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Multiple fiel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lnSpc>
                <a:spcPct val="200000"/>
              </a:lnSpc>
              <a:spcBef>
                <a:spcPts val="499"/>
              </a:spcBef>
              <a:buClr>
                <a:srgbClr val="003366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Inter-field relationship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ive run control scrip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ll elements automate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Back-up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gram run seque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cript (CL) built during test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an only run with statu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Signed Of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1523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Simulation exercis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imulation Objectiv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867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tablish exact time requir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idate reconciliation &amp; sign-off procedu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rify resource requir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ntire process must fit time window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Simulat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26668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89840" y="228600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onth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2960" y="2286000"/>
            <a:ext cx="147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ave / Co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50532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4038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6480" y="2971800"/>
            <a:ext cx="14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nv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1440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182880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tur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18288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666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45280" y="35812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Ver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9343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56720" y="4419720"/>
            <a:ext cx="145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Month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800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86960" y="48006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conc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274320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0" idx="0"/>
            <a:endCxn id="149" idx="0"/>
          </p:cNvCxnSpPr>
          <p:nvPr/>
        </p:nvCxnSpPr>
        <p:spPr>
          <a:xfrm>
            <a:off x="5105160" y="4038120"/>
            <a:ext cx="1080" cy="76284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3" name=""/>
          <p:cNvCxnSpPr>
            <a:stCxn id="147" idx="0"/>
            <a:endCxn id="145" idx="0"/>
          </p:cNvCxnSpPr>
          <p:nvPr/>
        </p:nvCxnSpPr>
        <p:spPr>
          <a:xfrm flipV="1" rot="16200000">
            <a:off x="4304520" y="2628000"/>
            <a:ext cx="2591640" cy="26679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cxnSp>
        <p:nvCxnSpPr>
          <p:cNvPr id="154" name=""/>
          <p:cNvCxnSpPr>
            <a:stCxn id="139" idx="0"/>
            <a:endCxn id="140" idx="0"/>
          </p:cNvCxnSpPr>
          <p:nvPr/>
        </p:nvCxnSpPr>
        <p:spPr>
          <a:xfrm>
            <a:off x="4190760" y="3504960"/>
            <a:ext cx="1080" cy="533880"/>
          </a:xfrm>
          <a:prstGeom prst="straightConnector1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55" name=""/>
          <p:cNvCxnSpPr>
            <a:stCxn id="140" idx="0"/>
            <a:endCxn id="139" idx="0"/>
          </p:cNvCxnSpPr>
          <p:nvPr/>
        </p:nvCxnSpPr>
        <p:spPr>
          <a:xfrm flipV="1" rot="16200000">
            <a:off x="2781000" y="2628000"/>
            <a:ext cx="533880" cy="2286720"/>
          </a:xfrm>
          <a:prstGeom prst="bentConnector5">
            <a:avLst>
              <a:gd name="adj1" fmla="val -1484"/>
              <a:gd name="adj2" fmla="val 26106"/>
              <a:gd name="adj3" fmla="val -3238"/>
            </a:avLst>
          </a:prstGeom>
          <a:ln w="2844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7086600" y="5334120"/>
            <a:ext cx="838080" cy="457200"/>
          </a:xfrm>
          <a:prstGeom prst="horizontalScroll">
            <a:avLst>
              <a:gd name="adj" fmla="val 12500"/>
            </a:avLst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gn-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pany History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Founded in 1996, Dublin, London, Sydney &amp; New York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Revenues circa $9m p.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Employees 45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AS/400 products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EM4 Triangulat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EM4 Database Conversio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Java products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n-IE" sz="2800" spc="-1" strike="noStrike">
                <a:solidFill>
                  <a:srgbClr val="003366"/>
                </a:solidFill>
                <a:latin typeface="Times New Roman"/>
              </a:rPr>
              <a:t>M</a:t>
            </a:r>
            <a:r>
              <a:rPr b="1" lang="en-IE" sz="2800" spc="-1" strike="noStrike" baseline="30000">
                <a:solidFill>
                  <a:srgbClr val="003366"/>
                </a:solidFill>
                <a:latin typeface="Times New Roman"/>
              </a:rPr>
              <a:t>co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371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23880" y="259092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&amp;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riable facto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71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988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4928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576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4280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7108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1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429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76520" y="274320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1752480"/>
            <a:ext cx="2743200" cy="228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05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7676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rst st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stal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naly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irst ru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 - 10 da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71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3988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4928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63868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576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4280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97108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91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167652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266360" y="220896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8120" y="1752480"/>
            <a:ext cx="2590560" cy="2438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7676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cond step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odify, redo &amp; further reconcili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es to data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lates to analysis quality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5 + day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71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3988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928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576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4280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97108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91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10080" y="22860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019920" y="2742480"/>
            <a:ext cx="304560" cy="762120"/>
          </a:xfrm>
          <a:prstGeom prst="upArrow">
            <a:avLst>
              <a:gd name="adj1" fmla="val 50000"/>
              <a:gd name="adj2" fmla="val 62559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2057400"/>
            <a:ext cx="167652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7676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imulation exerci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lnSpc>
                <a:spcPct val="200000"/>
              </a:lnSpc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2 - 3 days (weekend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71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4928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868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576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4280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97108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091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5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676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324480" y="274320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6628680" y="31996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324480" y="2590920"/>
            <a:ext cx="167652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view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achine performanc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source requireme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conciliation &amp; audit trai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External audit review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Target suitable period en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27162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39880" y="2209680"/>
            <a:ext cx="22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Install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49280" y="2827440"/>
            <a:ext cx="228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se, Run &amp; 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3335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638680" y="3952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57600" y="3444840"/>
            <a:ext cx="114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Simu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84872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42800" y="4064040"/>
            <a:ext cx="119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Live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971080" y="3505320"/>
            <a:ext cx="2438280" cy="380880"/>
          </a:xfrm>
          <a:custGeom>
            <a:avLst/>
            <a:gdLst>
              <a:gd name="textAreaLeft" fmla="*/ 426240 w 2438280"/>
              <a:gd name="textAreaRight" fmla="*/ 1767600 w 2438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9160" y="342900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t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lg"/>
            <a:tailEnd len="med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76760" y="3809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Review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0120" y="29718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ep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923960" y="3428280"/>
            <a:ext cx="304920" cy="76212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cc00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2819520"/>
            <a:ext cx="1676160" cy="220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1760" y="2590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Part 1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mplementation time-scale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o live weeken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eck against pla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o for it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bas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Number of application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S/400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Resourc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Other Consideration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ther data sources / targe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ther application platform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lnSpc>
                <a:spcPct val="130000"/>
              </a:lnSpc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terfa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fficial documents / registrat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corporate into project pl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37080" y="762120"/>
            <a:ext cx="628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EM4 - Database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What do you get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32320" y="2057400"/>
            <a:ext cx="7171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utomated Proc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ully Converted Data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tailed Audit &amp; Reconciliation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ast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8077320" y="1828800"/>
            <a:ext cx="990360" cy="9558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8077320" y="2666880"/>
            <a:ext cx="990360" cy="9558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8077320" y="3505320"/>
            <a:ext cx="990360" cy="955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5"/>
          <a:stretch/>
        </p:blipFill>
        <p:spPr>
          <a:xfrm>
            <a:off x="8077320" y="4343400"/>
            <a:ext cx="990360" cy="955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579320" y="1371600"/>
            <a:ext cx="65188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f you have any questions regar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he Euro or EM4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lease cont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Millennium Sol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+353 1 403 5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uro@ms400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 visit our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www.ms400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mpact on Fina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ew currency to be dealt with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porting in Eu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Legal requir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udit requir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voicing / bill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mpact on Finance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pen order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ay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General ledge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osting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mpact on I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pplication chang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New currenc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port modification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alue and Exchange Rate conversio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version differen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finition of field relationship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Impact on I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roject managemen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esource planning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Hardware requirement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xternal interfac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ther data sourc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preadsheet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tabas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16:30:42Z</dcterms:created>
  <dc:creator>Plunkett Devlin</dc:creator>
  <dc:description/>
  <dc:language>en-US</dc:language>
  <cp:lastModifiedBy>Alan Neild-Crabb</cp:lastModifiedBy>
  <cp:lastPrinted>1999-11-09T14:11:43Z</cp:lastPrinted>
  <dcterms:modified xsi:type="dcterms:W3CDTF">2000-02-10T13:34:48Z</dcterms:modified>
  <cp:revision>108</cp:revision>
  <dc:subject/>
  <dc:title>                                                      Michelle Doherty                                                       Marketing Co-ordinator                                                       Millennium Solutions 400 Limited </dc:title>
</cp:coreProperties>
</file>